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7.jpeg" ContentType="image/jpeg"/>
  <Override PartName="/ppt/media/GLASS.WAV" ContentType="audio/x-wav"/>
  <Override PartName="/ppt/media/image12.png" ContentType="image/png"/>
  <Override PartName="/ppt/media/CAMERA.WAV" ContentType="audio/x-wav"/>
  <Override PartName="/ppt/media/DRUMROLL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LASER.WAV" ContentType="audio/x-wav"/>
  <Override PartName="/ppt/media/image14.wmf" ContentType="image/x-wmf"/>
  <Override PartName="/ppt/media/image6.jpeg" ContentType="image/jpeg"/>
  <Override PartName="/ppt/media/TYPE.WAV" ContentType="audio/x-wav"/>
  <Override PartName="/ppt/media/image4.png" ContentType="image/png"/>
  <Override PartName="/ppt/media/CHIMES.WAV" ContentType="audio/x-wav"/>
  <Override PartName="/ppt/media/CLAP.WAV" ContentType="audio/x-wav"/>
  <Override PartName="/ppt/media/GUNSHOT.WAV" ContentType="audio/x-wav"/>
  <Override PartName="/ppt/media/image13.jpeg" ContentType="image/jpeg"/>
  <Override PartName="/ppt/media/image3.wmf" ContentType="image/x-wmf"/>
  <Override PartName="/ppt/media/image11.jpeg" ContentType="image/jpeg"/>
  <Override PartName="/ppt/media/APPLAUSE.WAV" ContentType="audio/x-wav"/>
  <Override PartName="/ppt/media/image9.png" ContentType="image/png"/>
  <Override PartName="/ppt/media/WHOOSH.WAV" ContentType="audio/x-wav"/>
  <Override PartName="/ppt/media/PROJCTOR.WAV" ContentType="audio/x-wav"/>
  <Override PartName="/ppt/media/EXPLODE.WAV" ContentType="audio/x-wav"/>
  <Override PartName="/ppt/media/RICOCHET.WAV" ContentType="audio/x-wav"/>
  <Override PartName="/ppt/media/image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7E90-4717-4DFF-9ACB-FDBE4EF5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Presented November 2002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e Dougl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s County High Schoo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Heavens”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s seen by the groundling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ven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een by the groundl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arge assemblies of peopl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pread diseas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uilt by associati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ons to Theat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ssemblies of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lt by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ritten in 1599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elebrates the passion of youthful lov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Dates back to 400 AD in a Greek Ro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eud--a prolonged conflict between families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feud is so old that the cause has been forgotten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15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es the passion of youthful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s back to 400 AD in a Greek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ud--a prolonged conflict between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 is so old that the cause has been forgot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Balcony Scen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, Romeo,            Wherefore art thou  Romeo?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emember:    Wherefore means “Why”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cony Sc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, Romeo,            Wherefore art thou  Rome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  Wherefore means “W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tar Crossed Love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Romeo and Juliet is a tragedy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In a tragedy many of the main characters die. 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Crossed L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is a traged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tragedy many of the main characters di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ife and Ti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apeare’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all’s Croft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born  in 1564 in Stratford-on-Avo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on of John &amp; Mary Arden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imilar to the home young Shakespeare may have grown up i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l’s Cr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born  in 1564 in Stratford-on-A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of John &amp; Mary 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the home young Shakespeare may have grown up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William Shakespear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Grammar School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1583 Married  Anne Hathawa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usanna, Hamnet, Judith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ven Dark Year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83 Married  Anne Hath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na, Hamnet, Jud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 Dark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in 1600’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Conditions in London were not pleasant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omes of the poor were small and dirt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ewage ran in open ditches in the street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vercrowding and unemployment were major problem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in 16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 in London were not pleas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s of the poor were small and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age ran in open ditches in the str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crowding and unemployment were major probl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ndon Brid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don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New Globe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w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Glob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Located on the south bank of the Thames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most famous London Playhous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Owned by the Burbage family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Flew a flag to announce a performanc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Acting companies used boys to play female roles. 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the south bank of the 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famous London Play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ned by the Burbag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w a flag to announce a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companies used boys to play female ro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Arial"/>
              </a:rPr>
              <a:t>The wealthy’s view of the stage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lthy’s view of the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736-5ED8-474F-840B-8A56C331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E28-8D05-4418-B03A-DF80A26C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B40-024F-4384-BD03-A95001B4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6EF-F314-40C2-B2D8-41F0FF93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D9D0-90ED-40C0-A8E4-280D5E05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3553-55AF-460B-AACE-4554952F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DD18-8738-4713-9C04-B76D3864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E915-92D9-4C99-B581-801F785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099-0E27-403C-8A68-B00F4B0A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2AB1-E2A6-4665-9B73-5811688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9BBC-DEEB-44FD-B0AC-6D94523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35F-53B2-4A09-BBD3-B626B50A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BE02-576A-489E-95C0-40BDBBE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678F-6CC4-4D1B-AF74-BA6D415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B46B-6743-4E0D-9D01-A41D9FE4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9B06-63B9-4FC4-B66A-150761B7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E7F9-BB97-4E93-B16F-BEDD7F80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842D-2D7F-4FF7-995F-79EB2C7D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B6D-7FE2-4541-9780-1A503129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F11-A904-498D-A7AD-87ADE4F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A99-28C4-4793-AD7D-113C3DC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7D8-0900-458B-ADFE-FA956A54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7C3-A475-461E-A6DB-62838545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65C-E03F-4D64-94A7-57C24EA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1C73-A605-481C-A48F-F64F19EB3AA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D5F-22F6-4665-A8A3-1C351E7E56D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LAP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EXPLODE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Michele Douglas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aves County High School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troduction to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resented November 200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67652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The Heavens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s seen by the groundling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7" name="Picture 5" descr="scfrns"/>
          <p:cNvPicPr/>
          <p:nvPr/>
        </p:nvPicPr>
        <p:blipFill>
          <a:blip r:embed="rId1"/>
          <a:stretch/>
        </p:blipFill>
        <p:spPr>
          <a:xfrm>
            <a:off x="1143000" y="38088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bjections to Theaters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arge assemblies of peop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pread dise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uilt by associ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aters were often located outside the city walls to avoid censor by London’s Lord Mayo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ten in 159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elebrates the passion of youthful lov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ates back to 400 AD in a Greek Ro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ud--a prolonged conflict between famili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feud is so old that the cause has been forgotte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Balcony Sce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meo, Romeo,            Wherefore art thou  Romeo?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member:    Wherefore means “Wh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9" descr="Dicksee"/>
          <p:cNvPicPr/>
          <p:nvPr/>
        </p:nvPicPr>
        <p:blipFill>
          <a:blip r:embed="rId1"/>
          <a:stretch/>
        </p:blipFill>
        <p:spPr>
          <a:xfrm>
            <a:off x="4503600" y="1295280"/>
            <a:ext cx="3757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tar Crossed Lov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2000"/>
                </a:solidFill>
                <a:latin typeface="Times New Roman"/>
              </a:rPr>
              <a:t>Romeo and Juliet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s a traged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 a tragedy many of the main characters die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1768320" y="552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38" name="Picture 6" descr="Leighton"/>
          <p:cNvPicPr/>
          <p:nvPr/>
        </p:nvPicPr>
        <p:blipFill>
          <a:blip r:embed="rId1"/>
          <a:stretch/>
        </p:blipFill>
        <p:spPr>
          <a:xfrm>
            <a:off x="3962520" y="1676520"/>
            <a:ext cx="4221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The End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41" name="Object 4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apeare’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19814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all’s Crof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86040" y="15998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hakespeare was born  in 1564 in Stratford-on-Av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n of John &amp; Mary A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imilar to the home young Shakespeare may have grown up 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5" descr="croft"/>
          <p:cNvPicPr/>
          <p:nvPr/>
        </p:nvPicPr>
        <p:blipFill>
          <a:blip r:embed="rId1"/>
          <a:stretch/>
        </p:blipFill>
        <p:spPr>
          <a:xfrm>
            <a:off x="762120" y="2536920"/>
            <a:ext cx="472428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75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illiam Shakespea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rammar Schoo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583 Married  Anne Hathaw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sanna, Hamnet, Judit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 Dark Ye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6" descr="shake2"/>
          <p:cNvPicPr/>
          <p:nvPr/>
        </p:nvPicPr>
        <p:blipFill>
          <a:blip r:embed="rId1"/>
          <a:stretch/>
        </p:blipFill>
        <p:spPr>
          <a:xfrm>
            <a:off x="4867200" y="1905120"/>
            <a:ext cx="34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in 1600’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ditions in London were not pleasant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omes of the poor were small and dir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wage ran in open ditches in the stre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vercrowding and unemployment were major problems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5" descr="VisscherLondonBridgesm"/>
          <p:cNvPicPr/>
          <p:nvPr/>
        </p:nvPicPr>
        <p:blipFill>
          <a:blip r:embed="rId1"/>
          <a:stretch/>
        </p:blipFill>
        <p:spPr>
          <a:xfrm>
            <a:off x="1039680" y="1752480"/>
            <a:ext cx="3684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ndon Brid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eads of traitors were displayed on pikes on the city’s main bridge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6" descr="londonbridgemed"/>
          <p:cNvPicPr/>
          <p:nvPr/>
        </p:nvPicPr>
        <p:blipFill>
          <a:blip r:embed="rId1"/>
          <a:stretch/>
        </p:blipFill>
        <p:spPr>
          <a:xfrm>
            <a:off x="2819520" y="1828800"/>
            <a:ext cx="5943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he New Globe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0400" y="411480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51840" y="-341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18" name="Picture 6" descr="Globe99sm"/>
          <p:cNvPicPr/>
          <p:nvPr/>
        </p:nvPicPr>
        <p:blipFill>
          <a:blip r:embed="rId1"/>
          <a:stretch/>
        </p:blipFill>
        <p:spPr>
          <a:xfrm>
            <a:off x="6248520" y="5715000"/>
            <a:ext cx="228600" cy="17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newglobe"/>
          <p:cNvPicPr/>
          <p:nvPr/>
        </p:nvPicPr>
        <p:blipFill>
          <a:blip r:embed="rId2"/>
          <a:stretch/>
        </p:blipFill>
        <p:spPr>
          <a:xfrm>
            <a:off x="1981080" y="2057400"/>
            <a:ext cx="57913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Glob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ocated on the south bank of the Tham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most famous London Playhous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wned by the Burbage fami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lew a flag to announce a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cting companies used boys to play female rol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akespeare was a member of Lord Chamberlain’s Company.  Later called the King’s M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he wealthy’s view of the st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5" descr="audi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23:48Z</dcterms:created>
  <dc:creator>GCHS</dc:creator>
  <dc:description/>
  <dc:language>en-US</dc:language>
  <cp:lastModifiedBy>RomaK</cp:lastModifiedBy>
  <dcterms:modified xsi:type="dcterms:W3CDTF">2015-09-04T10:38:35Z</dcterms:modified>
  <cp:revision>39</cp:revision>
  <dc:subject/>
  <dc:title>romeo and juliet</dc:title>
</cp:coreProperties>
</file>